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524A-D8E4-4FDD-A7B7-652C4AF8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C6DF-1AAA-44BF-8DF7-E331F31F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8BC9-8735-48B1-850F-E01216F9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A49B-3BF7-411B-AA25-34B137C4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05CD-5338-455C-917A-D3519D3F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871A-E8F3-450F-A8D0-7CEF050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DF70-1D2E-4F41-95BF-FE37FBA1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B0F4-4D40-4FCD-9B59-434C8A55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CE74-B93A-4D84-9F17-8BF235A3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4C7F-F156-4A08-BB95-9D25E4D6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792-04F9-4614-9959-BCDAFB08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6C84-CFDE-40CD-BF16-25E158B4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7869-DF2E-40B5-BCBE-DBDB802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A9D4-3962-4411-AD12-E81564E9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AF6E-81A2-4854-832F-46F06AB4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182F-FB04-4535-A6E7-E0C377B5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0EDF-3B29-431C-A880-CCB9B5A4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E05A-0476-4E81-B916-C12F16ED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DA3D-530C-4C1B-8CF1-613C870A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3545-6BCA-43C6-A088-D6C3519E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C7A0-FF9C-4971-8864-3CE21002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9E44-1580-44E6-B0E9-B7576FD5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AD4C-66F5-44AE-BB9D-0E23CE6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B349-B443-49DA-953B-31809385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DB5-B186-4722-AD36-67FE49AF6C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6BD0-5D90-4C9C-9FAA-9E566B2414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Connie Campbell</cp:lastModifiedBy>
  <dcterms:modified xsi:type="dcterms:W3CDTF">2002-05-31T21:57:07Z</dcterms:modified>
  <cp:revision>4</cp:revision>
  <dc:subject/>
  <dc:title>Guess the Covered Word</dc:title>
</cp:coreProperties>
</file>